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E7D-0288-4103-B58D-860A90BD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756-0528-4E23-800D-61712076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744-AB64-4ABD-9FE0-EA221484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6E9-0354-4590-8DB8-F123D48A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26B-8720-468D-84BB-772D531D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C68-0812-4921-B75A-6E2623E5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012-E6F6-4D0A-A52F-CDCC7250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FCF-7FCD-458D-9F7D-F17302A2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88D-5EC0-43C6-9750-D46FDDCE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791-FA7D-4A12-9B25-79A0D78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D99-0987-4B83-ABB8-1047F57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D80-CB03-4418-A5BF-5A9B6B6C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5108-DCFF-4D67-9460-13D18FAF5A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2590920"/>
            <a:ext cx="8229600" cy="33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й може, той може, </a:t>
            </a:r>
            <a:endParaRPr b="0" lang="en-US" sz="5400" spc="1" strike="noStrike">
              <a:ln w="284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 знам Той може.</a:t>
            </a:r>
            <a:endParaRPr b="0" lang="en-US" sz="5400" spc="1" strike="noStrike">
              <a:ln w="284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 знам, че Господ може</a:t>
            </a:r>
            <a:endParaRPr b="0" lang="en-US" sz="5400" spc="1" strike="noStrike">
              <a:ln w="284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 ме защити. /2/</a:t>
            </a:r>
            <a:endParaRPr b="0" lang="en-US" sz="5400" spc="1" strike="noStrike">
              <a:ln w="284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66680" y="1905120"/>
            <a:ext cx="6858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Той болни излекува</a:t>
            </a:r>
            <a:endParaRPr b="0" lang="en-US" sz="5400" spc="1" strike="noStrike">
              <a:ln w="1908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54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и мъртви възкреси, </a:t>
            </a:r>
            <a:endParaRPr b="0" lang="en-US" sz="5400" spc="1" strike="noStrike">
              <a:ln w="1908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а съкрушените сърца</a:t>
            </a:r>
            <a:endParaRPr b="0" lang="en-US" sz="5400" spc="1" strike="noStrike">
              <a:ln w="1908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54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адежда подари.</a:t>
            </a:r>
            <a:endParaRPr b="0" lang="en-US" sz="5400" spc="1" strike="noStrike">
              <a:ln w="1908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4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2590920"/>
            <a:ext cx="8229600" cy="33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й може, той може, </a:t>
            </a:r>
            <a:endParaRPr b="0" lang="en-US" sz="5400" spc="1" strike="noStrike">
              <a:ln w="284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 знам Той може.</a:t>
            </a:r>
            <a:endParaRPr b="0" lang="en-US" sz="5400" spc="1" strike="noStrike">
              <a:ln w="284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 знам, че Господ може</a:t>
            </a:r>
            <a:endParaRPr b="0" lang="en-US" sz="5400" spc="1" strike="noStrike">
              <a:ln w="284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 ме защити.</a:t>
            </a:r>
            <a:endParaRPr b="0" lang="en-US" sz="5400" spc="1" strike="noStrike">
              <a:ln w="284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17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fonTrifonow</cp:lastModifiedBy>
  <dcterms:modified xsi:type="dcterms:W3CDTF">2005-10-22T20:37:07Z</dcterms:modified>
  <cp:revision>36</cp:revision>
  <dc:subject/>
  <dc:title>PowerPoint Presentation</dc:title>
</cp:coreProperties>
</file>